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69F30-54FD-45DC-8101-3D9FC62C1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C6B6B-AE39-4C8B-B8D3-4CCF710E4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DF7AF-8480-4C28-803F-84A14394F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71A87-7AF8-4FD6-BE99-4E8A38062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53DF1-3B17-4186-A785-6F681C14B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6A59C-2BF1-408A-B811-621333DD6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92A1B-2A86-4F9E-ADA4-3C045CAD4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3CFDD-F0A2-44FD-BE29-7695BC02A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181CF-A5AC-45AF-9B83-6396EC6D7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1AA59-EC40-4971-A6E0-3DB332597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8E636-984B-4C26-A406-0A992CE87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7170-6E97-4DEB-8E39-8D9C43AA4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482E0-0E5A-4602-9C83-39803F5B5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72250-6DC4-4A1F-8DDE-FB2511FE3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96331-0A8D-4670-BCD0-7D5338788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3CA8A-CBDA-4713-B332-1FAD11E8D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B5C19-4651-49CA-A371-38405D1B7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8A1D1-A9D9-4A1B-8BCB-FA1F2E643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EAA93-8D75-4BC0-9B2B-D52F541B0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172CC-0A76-4520-AFD0-F0B06967F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D4720-FF45-4D78-B1F5-4BB4872D5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46FE-19D8-480B-BD3C-8754FE06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64D4-EFCC-4E90-9E60-D78894409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BDF8-324A-450D-A9A7-939C2CDAB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0081-62C4-4456-A778-BCD176B533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A23B-3F48-4272-AE61-DDCEC88F4FD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ruby3.dircon.co.uk/Training%20Files/Theory%20Pages/3brains.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66480" y="380520"/>
            <a:ext cx="7877160" cy="1303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flective Practice</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ea typeface="Times New Roman"/>
              </a:rPr>
              <a:t>   </a:t>
            </a:r>
            <a:r>
              <a:rPr b="1" lang="en-US" sz="1800" spc="-1" strike="noStrike">
                <a:solidFill>
                  <a:srgbClr val="000000"/>
                </a:solidFill>
                <a:latin typeface="Arial"/>
                <a:ea typeface="Arial"/>
              </a:rPr>
              <a:t>has an active concern with aims and consequences, as well as means and technical efficiency</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is applied in a cyclical or spiralling process, in which teachers monitor, evaluate and revise their own practice continuously</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requires competence in methods of classroom enquiry (gathering data, analysis, evaluation) to support the development of teaching competenc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requires attitudes of open-mindedness, responsibility and wholeheartedness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is based on teacher judgement which is informed partly by self-reflection and partly by insights from educational disciplines</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is enhanced through collaboration and dialogue with colleagues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Reflectio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flection involves "a state of doubt, hesitation, perplexity, or mental difficulty, in which thinking originates". This uncertainty is followed by the act of searching to find materials that will resolve this doubt and settle the perplexity (Dewey, 1933)…</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arning </a:t>
            </a:r>
            <a:r>
              <a:rPr b="0" lang="en-US" sz="2800" spc="-1" strike="noStrike">
                <a:solidFill>
                  <a:srgbClr val="000000"/>
                </a:solidFill>
                <a:latin typeface="Tahoma"/>
              </a:rPr>
              <a:t>is about </a:t>
            </a:r>
            <a:r>
              <a:rPr b="1" lang="en-US" sz="2800" spc="-1" strike="noStrike">
                <a:solidFill>
                  <a:srgbClr val="000000"/>
                </a:solidFill>
                <a:latin typeface="Tahoma"/>
              </a:rPr>
              <a:t>change</a:t>
            </a:r>
            <a:r>
              <a:rPr b="0" lang="en-US" sz="2800" spc="-1" strike="noStrike">
                <a:solidFill>
                  <a:srgbClr val="000000"/>
                </a:solidFill>
                <a:latin typeface="Tahoma"/>
              </a:rPr>
              <a:t> resulting from </a:t>
            </a:r>
            <a:r>
              <a:rPr b="1" lang="en-US" sz="2800" spc="-1" strike="noStrike">
                <a:solidFill>
                  <a:srgbClr val="000000"/>
                </a:solidFill>
                <a:latin typeface="Tahoma"/>
              </a:rPr>
              <a:t>experience </a:t>
            </a:r>
            <a:r>
              <a:rPr b="0" lang="en-US" sz="2800" spc="-1" strike="noStrike">
                <a:solidFill>
                  <a:srgbClr val="000000"/>
                </a:solidFill>
                <a:latin typeface="Tahoma"/>
              </a:rPr>
              <a:t>and </a:t>
            </a:r>
            <a:r>
              <a:rPr b="1" lang="en-US" sz="2800" spc="-1" strike="noStrike">
                <a:solidFill>
                  <a:srgbClr val="000000"/>
                </a:solidFill>
                <a:latin typeface="Tahoma"/>
              </a:rPr>
              <a:t>reflecting</a:t>
            </a:r>
            <a:r>
              <a:rPr b="0" lang="en-US" sz="2800" spc="-1" strike="noStrike">
                <a:solidFill>
                  <a:srgbClr val="000000"/>
                </a:solidFill>
                <a:latin typeface="Tahoma"/>
              </a:rPr>
              <a:t> on what we have learned and how we have chang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x Stages of Reflec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he experience itself – learning…</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 Description of the experience…</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The Interpretation of the experience from which we draw meaning…</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Generalising from the experience…</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pplying the lessons from the experience…</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Presentation based on ref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earning?</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ing in groups of 3 –4, consider what you consider constitutes learning.</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mpt a definition…</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g this on to flip-chart, IAW, post-its etc., and feedba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Arial"/>
              </a:rPr>
              <a:t>Definition Learning</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emphasis is on change through experience is reflected in one of the most familiar models of learning proposed by Kolb (1984):</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ea typeface="Arial"/>
                <a:hlinkClick r:id="rId1"/>
              </a:rPr>
              <a:t>http://www.ruby3.dircon.co.uk/Training Files/Theory Pages/3brains.ht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Kolb to Reflec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rete Experience = DO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lective Observation = REFLEC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tract Conceptualisatio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EVALUATING: inductive &amp; dedu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e Experimentation = LEAR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Arial"/>
              </a:rPr>
              <a:t>Definition Learning</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ing = any relatively permanent change in behaviour that occurs as a result of experienc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nge in behaviour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latively permanen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sult of experience</a:t>
            </a: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0:36:13Z</dcterms:created>
  <dc:creator>haydn_thomas</dc:creator>
  <dc:description/>
  <dc:language>en-US</dc:language>
  <cp:lastModifiedBy>craj3</cp:lastModifiedBy>
  <dcterms:modified xsi:type="dcterms:W3CDTF">2006-09-21T10:27:10Z</dcterms:modified>
  <cp:revision>41</cp:revision>
  <dc:subject/>
  <dc:title>PowerPoint Presentation</dc:title>
</cp:coreProperties>
</file>